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F93-FDDC-418F-B68D-B11EB144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A44-6455-4326-A3E0-999AF27A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FF7-7ED2-4645-AB49-C82A2EFA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856-211C-4E0A-87C2-55F42B21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D83-84FD-4F19-89F8-89367846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BB9-1E92-4DC6-8FC3-9DFC5B39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952-E1F8-4468-9730-340224A4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85A-BA7A-486B-A2F7-18DB206A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22E-01B3-4D91-9333-F591A69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E6B-64C0-44A3-B1F0-25B27668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9A0-1E98-4E7F-961B-8EDD60A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399-76FA-451E-A618-8BF8238F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F2CC-F6D6-4455-A556-F7C69817BF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07C1-7108-4C0A-B0AF-DA7710FCB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2665440" cy="23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87440" y="335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0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160" y="549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km Ge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915840"/>
            <a:ext cx="2519280" cy="229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8160" y="3355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96000" y="907920"/>
            <a:ext cx="2535120" cy="233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27440" y="335592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0.1% de </a:t>
            </a:r>
            <a:r>
              <a:rPr b="1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03640" y="3860640"/>
            <a:ext cx="3095640" cy="2733840"/>
            <a:chOff x="3203640" y="3860640"/>
            <a:chExt cx="3095640" cy="273384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203640" y="3860640"/>
              <a:ext cx="309564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26360" y="6040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89920" y="5732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92080" y="53737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45320" y="4005360"/>
              <a:ext cx="7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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Math1Mono"/>
                  <a:ea typeface="Math1Mono"/>
                </a:rPr>
                <a:t>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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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26400" y="6165720"/>
              <a:ext cx="1049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Math1Mono"/>
                  <a:ea typeface="Math1Mono"/>
                </a:rPr>
                <a:t>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Math1Mono"/>
                  <a:ea typeface="Math1Mono"/>
                </a:rPr>
                <a:t>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2Ge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29012-F801-4EFB-BE41-D16EFAF39E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3:18:27Z</dcterms:created>
  <dc:creator>J.E Campagne</dc:creator>
  <dc:description/>
  <dc:language>en-US</dc:language>
  <cp:lastModifiedBy>J.E Campagne</cp:lastModifiedBy>
  <dcterms:modified xsi:type="dcterms:W3CDTF">2005-11-30T15:26:52Z</dcterms:modified>
  <cp:revision>6</cp:revision>
  <dc:subject/>
  <dc:title>Diapositive 1</dc:title>
</cp:coreProperties>
</file>